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054F-EF3D-4154-B080-14ADFFBC34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6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E179-6EFD-4EAB-9211-DB9F612C2EE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6C33-3252-42D9-A24B-99B43E5EA398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35CC-F68E-4794-BDBA-7F7AFA550AB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BA4-333A-49EF-993E-CA9ADE10FF1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70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A949-B67D-4C16-9DD1-2AA5387D31E9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AEC93-9A30-4E89-AACD-AE68C05A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83A9F-842E-486C-868A-A48888EC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30D5-D63A-4558-BF3D-5D791554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87400-5196-4884-9AE3-1622766A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1B7D2-FA28-4444-9BC5-06CAF6AB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C999D-45DF-4ABA-AB3B-FB08D6A5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EC8E8-C6C8-40CE-ABE1-7D0D33E4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87A8C-C8CE-4512-B364-382BB605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E96F2-CB85-425F-A7A2-DBD8C001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7004E-793A-47D9-A522-1FAA43BF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93174-0CB5-47E7-83A9-10092277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B9208-4FEE-45E0-8425-580829AE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000791-D632-48FB-A734-D6DD9F79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717C51-27E1-49A5-9477-D6460708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85C57-6366-4465-B383-416C20A7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FCB211-2F48-40B1-94E7-7B27662F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C12825-958D-49C1-B9F0-CF5678A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9A2552-DBA8-40BE-9AC3-2B6D7D00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F76B7C-0245-42AA-A46E-68E44CF3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00B4F-E807-4630-81FA-3A17D0B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1853B-C5AF-4263-880D-6C4ADCA4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A666B-9EDB-4D21-9BCD-2CFA5AD7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EEF64-A907-45E5-9304-AEB40172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DBA27D-9A7D-4C6C-BB66-C5DEC365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61.xml"/><Relationship Id="rId10" Type="http://schemas.openxmlformats.org/officeDocument/2006/relationships/slideLayout" Target="../slideLayouts/slideLayout62.xml"/><Relationship Id="rId11" Type="http://schemas.openxmlformats.org/officeDocument/2006/relationships/slideLayout" Target="../slideLayouts/slideLayout63.xml"/><Relationship Id="rId12" Type="http://schemas.openxmlformats.org/officeDocument/2006/relationships/slideLayout" Target="../slideLayouts/slideLayout64.xml"/><Relationship Id="rId13" Type="http://schemas.openxmlformats.org/officeDocument/2006/relationships/slideLayout" Target="../slideLayouts/slideLayout65.xml"/><Relationship Id="rId14" Type="http://schemas.openxmlformats.org/officeDocument/2006/relationships/slideLayout" Target="../slideLayouts/slideLayout66.xml"/><Relationship Id="rId15" Type="http://schemas.openxmlformats.org/officeDocument/2006/relationships/slideLayout" Target="../slideLayouts/slideLayout67.xml"/><Relationship Id="rId16" Type="http://schemas.openxmlformats.org/officeDocument/2006/relationships/slideLayout" Target="../slideLayouts/slideLayout68.xml"/><Relationship Id="rId17" Type="http://schemas.openxmlformats.org/officeDocument/2006/relationships/slideLayout" Target="../slideLayouts/slideLayout69.xml"/><Relationship Id="rId18" Type="http://schemas.openxmlformats.org/officeDocument/2006/relationships/slideLayout" Target="../slideLayouts/slideLayout70.xml"/><Relationship Id="rId19" Type="http://schemas.openxmlformats.org/officeDocument/2006/relationships/slideLayout" Target="../slideLayouts/slideLayout71.xml"/><Relationship Id="rId20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6973-AA79-41E5-B844-51FFD8D271D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EDC3-1A2D-47BF-A0F3-7E1CA30AA20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3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9F53-9620-4C48-A933-6BBA7B31E4F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47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150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1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2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154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5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9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160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D707-A2E5-4D93-BBFB-3C4A6FF82747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72FF-EFE7-4496-A12E-9DC6B3C7787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68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1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73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76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79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80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7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8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2533-4458-44A2-8B24-E30533570A3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91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3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4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14D3-8500-4AA7-A744-74927B24713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54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6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357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8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361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2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3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4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65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66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367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34C5-C920-48C8-A408-57A3EFBD7AD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9"/>
    <p:sldLayoutId id="2147483715" r:id="rId10"/>
    <p:sldLayoutId id="2147483716" r:id="rId11"/>
    <p:sldLayoutId id="2147483717" r:id="rId12"/>
    <p:sldLayoutId id="2147483718" r:id="rId13"/>
    <p:sldLayoutId id="2147483719" r:id="rId14"/>
    <p:sldLayoutId id="2147483720" r:id="rId15"/>
    <p:sldLayoutId id="2147483721" r:id="rId16"/>
    <p:sldLayoutId id="2147483722" r:id="rId17"/>
    <p:sldLayoutId id="2147483723" r:id="rId18"/>
    <p:sldLayoutId id="2147483724" r:id="rId19"/>
    <p:sldLayoutId id="2147483725" r:id="rId20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1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1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2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2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2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1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3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5384-8DE4-4AA8-9D2D-0EDDA9704480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75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6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7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8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80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82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83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4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5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86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87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0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1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2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AutoShape 25"/>
            <p:cNvSpPr/>
            <p:nvPr/>
          </p:nvSpPr>
          <p:spPr>
            <a:xfrm rot="16200000">
              <a:off x="7775640" y="6594840"/>
              <a:ext cx="13968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95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801B-EAC0-42D2-882B-8693ADA5D0C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6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98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8000" y="504720"/>
            <a:ext cx="9036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5400" spc="-1" strike="noStrike">
                <a:solidFill>
                  <a:srgbClr val="ffffff"/>
                </a:solidFill>
                <a:latin typeface="HY강B"/>
                <a:ea typeface="HY강B"/>
              </a:rPr>
              <a:t>3 </a:t>
            </a:r>
            <a:r>
              <a:rPr b="1" lang="ko-KR" sz="5400" spc="-1" strike="noStrike">
                <a:solidFill>
                  <a:srgbClr val="ffffff"/>
                </a:solidFill>
                <a:latin typeface="HY강B"/>
                <a:ea typeface="HY강B"/>
              </a:rPr>
              <a:t>부 노인복지정책과 실천</a:t>
            </a:r>
            <a:endParaRPr b="0" lang="en-US" sz="5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46" name="Picture 4" descr="그림1"/>
          <p:cNvPicPr/>
          <p:nvPr/>
        </p:nvPicPr>
        <p:blipFill>
          <a:blip r:embed="rId1"/>
          <a:stretch/>
        </p:blipFill>
        <p:spPr>
          <a:xfrm>
            <a:off x="-42840" y="2189160"/>
            <a:ext cx="9302760" cy="2230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28760" y="2857680"/>
            <a:ext cx="85010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Y강B"/>
                <a:ea typeface="HY강B"/>
              </a:rPr>
              <a:t>10</a:t>
            </a:r>
            <a:r>
              <a:rPr b="1" lang="ko-KR" sz="3800" spc="-1" strike="noStrike">
                <a:solidFill>
                  <a:srgbClr val="ffff00"/>
                </a:solidFill>
                <a:latin typeface="HY강B"/>
                <a:ea typeface="HY강B"/>
              </a:rPr>
              <a:t>장 노인복지와 노인복지정책</a:t>
            </a:r>
            <a:endParaRPr b="0" lang="en-US" sz="38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1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현행 노인복지정책과 서비스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2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 프로그램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1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인복지실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그룹 17"/>
          <p:cNvGrpSpPr/>
          <p:nvPr/>
        </p:nvGrpSpPr>
        <p:grpSpPr>
          <a:xfrm>
            <a:off x="285840" y="208080"/>
            <a:ext cx="8858160" cy="6149880"/>
            <a:chOff x="285840" y="208080"/>
            <a:chExt cx="8858160" cy="6149880"/>
          </a:xfrm>
        </p:grpSpPr>
        <p:grpSp>
          <p:nvGrpSpPr>
            <p:cNvPr id="644" name="그룹 17"/>
            <p:cNvGrpSpPr/>
            <p:nvPr/>
          </p:nvGrpSpPr>
          <p:grpSpPr>
            <a:xfrm>
              <a:off x="285840" y="208080"/>
              <a:ext cx="8715600" cy="2143080"/>
              <a:chOff x="285840" y="208080"/>
              <a:chExt cx="8715600" cy="2143080"/>
            </a:xfrm>
          </p:grpSpPr>
          <p:sp>
            <p:nvSpPr>
              <p:cNvPr id="645" name="AutoShape 2"/>
              <p:cNvSpPr/>
              <p:nvPr/>
            </p:nvSpPr>
            <p:spPr>
              <a:xfrm>
                <a:off x="285840" y="518760"/>
                <a:ext cx="8715600" cy="1832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46" name="그룹 10"/>
              <p:cNvGrpSpPr/>
              <p:nvPr/>
            </p:nvGrpSpPr>
            <p:grpSpPr>
              <a:xfrm>
                <a:off x="285840" y="208080"/>
                <a:ext cx="8715600" cy="2135520"/>
                <a:chOff x="285840" y="208080"/>
                <a:chExt cx="8715600" cy="2135520"/>
              </a:xfrm>
            </p:grpSpPr>
            <p:sp>
              <p:nvSpPr>
                <p:cNvPr id="647" name="AutoShape 4"/>
                <p:cNvSpPr/>
                <p:nvPr/>
              </p:nvSpPr>
              <p:spPr>
                <a:xfrm>
                  <a:off x="357120" y="20808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3) 1960-197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6"/>
                <p:cNvSpPr/>
                <p:nvPr/>
              </p:nvSpPr>
              <p:spPr>
                <a:xfrm>
                  <a:off x="285840" y="636480"/>
                  <a:ext cx="8715600" cy="170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1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6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활보호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1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공무원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2)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군인연금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보장에 관한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법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63)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등 제정으로 사회보장 기틀을 마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.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그러나 경제발전논리에 밀려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 발전 못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70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년대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문제가 사회적 관심을 얻게 되지만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생계보호수준에 그치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효친사상 앙양을 강조하여 가족에 의한 노인부양 유도 노력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9" name="그룹 18"/>
            <p:cNvGrpSpPr/>
            <p:nvPr/>
          </p:nvGrpSpPr>
          <p:grpSpPr>
            <a:xfrm>
              <a:off x="285840" y="2500200"/>
              <a:ext cx="8858160" cy="1587240"/>
              <a:chOff x="285840" y="2500200"/>
              <a:chExt cx="8858160" cy="1587240"/>
            </a:xfrm>
          </p:grpSpPr>
          <p:sp>
            <p:nvSpPr>
              <p:cNvPr id="650" name="AutoShape 2"/>
              <p:cNvSpPr/>
              <p:nvPr/>
            </p:nvSpPr>
            <p:spPr>
              <a:xfrm>
                <a:off x="285840" y="2810880"/>
                <a:ext cx="8715600" cy="1276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651" name="그룹 10"/>
              <p:cNvGrpSpPr/>
              <p:nvPr/>
            </p:nvGrpSpPr>
            <p:grpSpPr>
              <a:xfrm>
                <a:off x="285840" y="2500200"/>
                <a:ext cx="8858160" cy="1536120"/>
                <a:chOff x="285840" y="2500200"/>
                <a:chExt cx="8858160" cy="1536120"/>
              </a:xfrm>
            </p:grpSpPr>
            <p:sp>
              <p:nvSpPr>
                <p:cNvPr id="652" name="AutoShape 4"/>
                <p:cNvSpPr/>
                <p:nvPr/>
              </p:nvSpPr>
              <p:spPr>
                <a:xfrm>
                  <a:off x="357120" y="2500200"/>
                  <a:ext cx="3816360" cy="3571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4) 1980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년대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6"/>
                <p:cNvSpPr/>
                <p:nvPr/>
              </p:nvSpPr>
              <p:spPr>
                <a:xfrm>
                  <a:off x="285840" y="2928960"/>
                  <a:ext cx="8858160" cy="110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제도 기반의 확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 제정과 개정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199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복지법의 한계와 가족부양을 강조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우대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경로헌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능력은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무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건강진단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공동작업장 운영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4" name="AutoShape 2"/>
            <p:cNvSpPr/>
            <p:nvPr/>
          </p:nvSpPr>
          <p:spPr>
            <a:xfrm>
              <a:off x="285840" y="4500720"/>
              <a:ext cx="8715600" cy="18572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55" name="그룹 10"/>
            <p:cNvGrpSpPr/>
            <p:nvPr/>
          </p:nvGrpSpPr>
          <p:grpSpPr>
            <a:xfrm>
              <a:off x="285840" y="4199040"/>
              <a:ext cx="8858160" cy="2143800"/>
              <a:chOff x="285840" y="4199040"/>
              <a:chExt cx="8858160" cy="2143800"/>
            </a:xfrm>
          </p:grpSpPr>
          <p:sp>
            <p:nvSpPr>
              <p:cNvPr id="656" name="AutoShape 4"/>
              <p:cNvSpPr/>
              <p:nvPr/>
            </p:nvSpPr>
            <p:spPr>
              <a:xfrm>
                <a:off x="357120" y="4199040"/>
                <a:ext cx="3816360" cy="360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5) 199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57" name="Text Box 6"/>
              <p:cNvSpPr/>
              <p:nvPr/>
            </p:nvSpPr>
            <p:spPr>
              <a:xfrm>
                <a:off x="285840" y="4572000"/>
                <a:ext cx="8858160" cy="17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확대발전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료노인복지시설 개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업참여 허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3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사업확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전달체계 확대개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서비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체제 완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 후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건의 통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가서비스 강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공급주체 다양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 강화를 추진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제서비스와 괴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250920" y="3822840"/>
            <a:ext cx="8858160" cy="259236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59" name="그룹 6"/>
          <p:cNvGrpSpPr/>
          <p:nvPr/>
        </p:nvGrpSpPr>
        <p:grpSpPr>
          <a:xfrm>
            <a:off x="214200" y="189000"/>
            <a:ext cx="8929800" cy="3058200"/>
            <a:chOff x="214200" y="189000"/>
            <a:chExt cx="8929800" cy="3058200"/>
          </a:xfrm>
        </p:grpSpPr>
        <p:sp>
          <p:nvSpPr>
            <p:cNvPr id="660" name="AutoShape 2"/>
            <p:cNvSpPr/>
            <p:nvPr/>
          </p:nvSpPr>
          <p:spPr>
            <a:xfrm>
              <a:off x="214200" y="740160"/>
              <a:ext cx="8858520" cy="24249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61" name="그룹 10"/>
            <p:cNvGrpSpPr/>
            <p:nvPr/>
          </p:nvGrpSpPr>
          <p:grpSpPr>
            <a:xfrm>
              <a:off x="285480" y="189000"/>
              <a:ext cx="8858520" cy="3058200"/>
              <a:chOff x="285480" y="189000"/>
              <a:chExt cx="8858520" cy="3058200"/>
            </a:xfrm>
          </p:grpSpPr>
          <p:sp>
            <p:nvSpPr>
              <p:cNvPr id="662" name="AutoShape 4"/>
              <p:cNvSpPr/>
              <p:nvPr/>
            </p:nvSpPr>
            <p:spPr>
              <a:xfrm>
                <a:off x="356760" y="189000"/>
                <a:ext cx="3816360" cy="519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6) 2000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63" name="Text Box 6"/>
              <p:cNvSpPr/>
              <p:nvPr/>
            </p:nvSpPr>
            <p:spPr>
              <a:xfrm>
                <a:off x="285480" y="908640"/>
                <a:ext cx="8858520" cy="233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제도의 변혁과 발전이 동시에 이루어진 시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규 정책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소득노인 식사배달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니어클럽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안검진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안수술 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전문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 전담기관 운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제도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률 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법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다양한 신규 급여와서비스가 시행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의 시행은 노인복지제도의 획기적 변화 유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664" name="AutoShape 4"/>
          <p:cNvSpPr/>
          <p:nvPr/>
        </p:nvSpPr>
        <p:spPr>
          <a:xfrm>
            <a:off x="395280" y="3306600"/>
            <a:ext cx="3816360" cy="409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e81e0"/>
              </a:gs>
              <a:gs pos="100000">
                <a:srgbClr val="333c6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cacac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7) 2010</a:t>
            </a:r>
            <a:r>
              <a:rPr b="1" lang="ko-KR" sz="2800" spc="-1" strike="noStrike">
                <a:solidFill>
                  <a:srgbClr val="ffffff"/>
                </a:solidFill>
                <a:latin typeface="HY강B"/>
              </a:rPr>
              <a:t>년대</a:t>
            </a:r>
            <a:r>
              <a:rPr b="1" lang="en-US" sz="2800" spc="-1" strike="noStrike">
                <a:solidFill>
                  <a:srgbClr val="ffffff"/>
                </a:solidFill>
                <a:latin typeface="HY강B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322200" y="3860640"/>
            <a:ext cx="88581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0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지제도의 변혁과 발전의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새로운 노인문제와 복지실천에 대한 관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법률 제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: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자살예방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관리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기초연금법 등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중장기발전계획 시행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복지 재정 및 전달체계 확대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방정부의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자적 노인복지정책 추진 등이 이루어지고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치매국가책임제 시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인 인권보호 조치 강화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독거노인 자살 및 고독사 예방 개입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생산적이고 활기찬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  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노화의 촉진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지역돌봄체계의 구축 등을 위한 정책 강화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99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향후 재정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인력</a:t>
            </a:r>
            <a:r>
              <a:rPr b="0" lang="en-US" sz="1800" spc="-1" strike="noStrike">
                <a:solidFill>
                  <a:srgbClr val="1a2f96"/>
                </a:solidFill>
                <a:latin typeface="HY강M"/>
                <a:ea typeface="HY강M"/>
              </a:rPr>
              <a:t>, </a:t>
            </a:r>
            <a:r>
              <a:rPr b="0" lang="ko-KR" sz="1800" spc="-1" strike="noStrike">
                <a:solidFill>
                  <a:srgbClr val="1a2f96"/>
                </a:solidFill>
                <a:latin typeface="HY강M"/>
                <a:ea typeface="HY강M"/>
              </a:rPr>
              <a:t>시설 등의 확충과 서비스의 양과 질 제고 노력 필요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그룹 8"/>
          <p:cNvGrpSpPr/>
          <p:nvPr/>
        </p:nvGrpSpPr>
        <p:grpSpPr>
          <a:xfrm>
            <a:off x="0" y="0"/>
            <a:ext cx="9358200" cy="6638760"/>
            <a:chOff x="0" y="0"/>
            <a:chExt cx="9358200" cy="6638760"/>
          </a:xfrm>
        </p:grpSpPr>
        <p:pic>
          <p:nvPicPr>
            <p:cNvPr id="667" name="Picture 2" descr="C:\DOCUME~1\USER\LOCALS~1\Temp\UNI00000f5434d5.gif"/>
            <p:cNvPicPr/>
            <p:nvPr/>
          </p:nvPicPr>
          <p:blipFill>
            <a:blip r:embed="rId1"/>
            <a:stretch/>
          </p:blipFill>
          <p:spPr>
            <a:xfrm>
              <a:off x="571320" y="5286240"/>
              <a:ext cx="3071880" cy="13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그림 3" descr="title.jp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Rectangle 2"/>
            <p:cNvSpPr/>
            <p:nvPr/>
          </p:nvSpPr>
          <p:spPr>
            <a:xfrm>
              <a:off x="1571400" y="14256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정책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AutoShape 2"/>
            <p:cNvSpPr/>
            <p:nvPr/>
          </p:nvSpPr>
          <p:spPr>
            <a:xfrm>
              <a:off x="428400" y="2244600"/>
              <a:ext cx="8429760" cy="3041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500040" y="1029960"/>
              <a:ext cx="457200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복지정책의 기본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Text Box 6"/>
            <p:cNvSpPr/>
            <p:nvPr/>
          </p:nvSpPr>
          <p:spPr>
            <a:xfrm>
              <a:off x="500040" y="2315880"/>
              <a:ext cx="8501040" cy="302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개념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특정 목적 달성을 위한 국가나 기관이 선택한 행동원칙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책의 특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결정의 주체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국가와 공공단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책의 목표</a:t>
              </a:r>
              <a:r>
                <a:rPr b="0" lang="en-US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의 선 또는 국민의 복지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정치적 과정을 거쳐 내려진 공적 결정으로 강제성을 지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1d528d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d528d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문제해결을 위한 대안 중 적절하고 효율적 대안에 대한 선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의 사회적 욕구 충족과 문제해결을 위한 정부나 공공기관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행동원칙과 계획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직사각형 11"/>
            <p:cNvSpPr/>
            <p:nvPr/>
          </p:nvSpPr>
          <p:spPr>
            <a:xfrm>
              <a:off x="428400" y="1761840"/>
              <a:ext cx="62150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909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Arial"/>
                </a:rPr>
                <a:t>노인복지정책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그룹 4"/>
          <p:cNvGrpSpPr/>
          <p:nvPr/>
        </p:nvGrpSpPr>
        <p:grpSpPr>
          <a:xfrm>
            <a:off x="285840" y="146160"/>
            <a:ext cx="8572320" cy="6144120"/>
            <a:chOff x="285840" y="146160"/>
            <a:chExt cx="8572320" cy="6144120"/>
          </a:xfrm>
        </p:grpSpPr>
        <p:sp>
          <p:nvSpPr>
            <p:cNvPr id="675" name="AutoShape 2"/>
            <p:cNvSpPr/>
            <p:nvPr/>
          </p:nvSpPr>
          <p:spPr>
            <a:xfrm>
              <a:off x="285840" y="554040"/>
              <a:ext cx="8572320" cy="57322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500040" y="571320"/>
              <a:ext cx="8358120" cy="57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의 구성요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복지의 목표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수단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계획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자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 +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주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공공기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/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대상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+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결과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노인의 삶의 변화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노인복지정책은 노인욕구충족과 문제해결의 합리적 대안이지만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정치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적 조정과 타협의 산물이며</a:t>
              </a: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제한된 자원으로 인하여 정책형성과정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변형될 수 있음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10-3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의제 선택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다양한 욕구와 문제 중에서 정책에서 다루어야 할 몇 가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문제를 선택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대안 형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문제 해결에 활용 가능한 정책대안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바람직한 대안을 선별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대안간의 장단점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비용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과 비교분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결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 달성을 위해 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2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개 이상의 대안 중에서 하나의 대안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선택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때 사회적 자원과 정치적 구조라는 제약요인 때문에 결정된 대안은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‘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가장 합리적인 대안’이 아니라 ‘가장 적절한 대안’이 될 수밖에 없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집행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프로그램이나 서비스를 개발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필요한 자원의 동원과 조직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등을 통하여 정책을 보다 구체화하고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이를 실천하는 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af334e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정책평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목표달성의 효과성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효율성에 대한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형성과정 평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정책평가에 근거한 정책 확대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수정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변경</a:t>
              </a:r>
              <a:r>
                <a:rPr b="0" lang="en-US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11f65"/>
                  </a:solidFill>
                  <a:latin typeface="HY강M"/>
                  <a:ea typeface="HY강M"/>
                </a:rPr>
                <a:t>종결 여부의 결정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7" name="직사각형 3"/>
            <p:cNvSpPr/>
            <p:nvPr/>
          </p:nvSpPr>
          <p:spPr>
            <a:xfrm>
              <a:off x="428400" y="146160"/>
              <a:ext cx="6215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   </a:t>
              </a:r>
              <a:r>
                <a:rPr b="1" lang="ko-KR" sz="2400" spc="-1" strike="noStrike">
                  <a:solidFill>
                    <a:srgbClr val="c00000"/>
                  </a:solidFill>
                  <a:latin typeface="Arial"/>
                </a:rPr>
                <a:t>노인복지정책의 구성요소와 과정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그룹 4"/>
          <p:cNvGrpSpPr/>
          <p:nvPr/>
        </p:nvGrpSpPr>
        <p:grpSpPr>
          <a:xfrm>
            <a:off x="285840" y="119160"/>
            <a:ext cx="8715240" cy="6167520"/>
            <a:chOff x="285840" y="119160"/>
            <a:chExt cx="8715240" cy="6167520"/>
          </a:xfrm>
        </p:grpSpPr>
        <p:sp>
          <p:nvSpPr>
            <p:cNvPr id="679" name="AutoShape 2"/>
            <p:cNvSpPr/>
            <p:nvPr/>
          </p:nvSpPr>
          <p:spPr>
            <a:xfrm>
              <a:off x="285840" y="554040"/>
              <a:ext cx="8715240" cy="5732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0" name="Text Box 6"/>
            <p:cNvSpPr/>
            <p:nvPr/>
          </p:nvSpPr>
          <p:spPr>
            <a:xfrm>
              <a:off x="428400" y="714240"/>
              <a:ext cx="8358120" cy="55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치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목적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원칙인 정책이 정책대상에게 전달되기 위해서는 정책집행단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에서 프로그램이나 서비스로 변형되어야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이때 ‘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’의 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4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가지 영역에서 가치선택 필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배분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allocation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누구에게 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/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 수급 자격을 줄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서비스 수급 자격요건을 결정하기 위해서는 노인욕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기여와 손상에 대한 보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준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문가판단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자산상태를 고려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또한 평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평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선별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보편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비용효과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/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적 효과 중 어떤 가치를 중시할 것인지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결정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급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benefit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서비스나 급여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기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권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서비스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현물 중에서 급여형태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의 선택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통제목적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적정 수준의 결정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동일급여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능력에 따른 급여와 관     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련된 가치결정을 해야 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전달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delivery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어떤 방법으로 서비스를 제공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중앙집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-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지방분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나 서비스 수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급여제공장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제공자의 전문성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전달체계간의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협력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공공과 민간의 역할분담 고려 결정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재정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(finance): </a:t>
              </a:r>
              <a:r>
                <a:rPr b="0" lang="ko-KR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서비스에 필요한 자원을 어떻게 마련할 것인가</a:t>
              </a:r>
              <a:r>
                <a:rPr b="0" lang="en-US" sz="1800" spc="-1" strike="noStrike">
                  <a:solidFill>
                    <a:srgbClr val="181373"/>
                  </a:solidFill>
                  <a:latin typeface="HY강M"/>
                  <a:ea typeface="HY강M"/>
                </a:rPr>
                <a:t>?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6b0d8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수급자 부담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민간모금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사회보험료</a:t>
              </a: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조세 등의 자원마련방안 중에서 하나 또는 그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6b0d89"/>
                  </a:solidFill>
                  <a:latin typeface="HY강M"/>
                  <a:ea typeface="HY강M"/>
                </a:rPr>
                <a:t>이상의 방법 동시 활용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81" name="직사각형 3"/>
            <p:cNvSpPr/>
            <p:nvPr/>
          </p:nvSpPr>
          <p:spPr>
            <a:xfrm>
              <a:off x="285840" y="119160"/>
              <a:ext cx="6215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2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1" lang="ko-KR" sz="2600" spc="-1" strike="noStrike">
                  <a:solidFill>
                    <a:srgbClr val="c00000"/>
                  </a:solidFill>
                  <a:latin typeface="Arial"/>
                </a:rPr>
                <a:t>노인복지정책의 선택차원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그룹 8"/>
          <p:cNvGrpSpPr/>
          <p:nvPr/>
        </p:nvGrpSpPr>
        <p:grpSpPr>
          <a:xfrm>
            <a:off x="285840" y="71280"/>
            <a:ext cx="8643960" cy="5889960"/>
            <a:chOff x="285840" y="71280"/>
            <a:chExt cx="8643960" cy="5889960"/>
          </a:xfrm>
        </p:grpSpPr>
        <p:grpSp>
          <p:nvGrpSpPr>
            <p:cNvPr id="683" name="그룹 22"/>
            <p:cNvGrpSpPr/>
            <p:nvPr/>
          </p:nvGrpSpPr>
          <p:grpSpPr>
            <a:xfrm>
              <a:off x="285840" y="785520"/>
              <a:ext cx="8643960" cy="5175720"/>
              <a:chOff x="285840" y="785520"/>
              <a:chExt cx="8643960" cy="5175720"/>
            </a:xfrm>
          </p:grpSpPr>
          <p:sp>
            <p:nvSpPr>
              <p:cNvPr id="684" name="AutoShape 2"/>
              <p:cNvSpPr/>
              <p:nvPr/>
            </p:nvSpPr>
            <p:spPr>
              <a:xfrm>
                <a:off x="285840" y="785520"/>
                <a:ext cx="8643960" cy="5175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85" name="Text Box 6"/>
              <p:cNvSpPr/>
              <p:nvPr/>
            </p:nvSpPr>
            <p:spPr>
              <a:xfrm>
                <a:off x="357120" y="1039680"/>
                <a:ext cx="8572680" cy="404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정책의 접근방법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인구중심 접근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제중심 접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문제중심접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빈곤 → 소득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주거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질병 → 건강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소독과 소외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무위 → 고용보장과 사회적 서비스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(1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장 참조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00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년대 초반까지 노인복지사업이 빠르게 확충되었으나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대상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소비용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저서비스의 속성을 지니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출산고령사회기본계획 수립 및 시행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소득보장체계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하고 보호받는 노후생활    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후준비와 사회참여 기반 조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생활환경 조성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새로마지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15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정적 노후소득 보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건강수명 연장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적극적 노년의 삶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안전하고 편리한 생활 추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차 브릿지 플랜 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2020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생산적이고 활기찬 고령사회를 위한 노후소득보장 강화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활기차고 안전한 노후실현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고령자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외국인력 활용 확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친화 경제로의 도약 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86" name="AutoShape 4"/>
            <p:cNvSpPr/>
            <p:nvPr/>
          </p:nvSpPr>
          <p:spPr>
            <a:xfrm>
              <a:off x="357120" y="71280"/>
              <a:ext cx="5400720" cy="642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7" name="그룹 8"/>
          <p:cNvGrpSpPr/>
          <p:nvPr/>
        </p:nvGrpSpPr>
        <p:grpSpPr>
          <a:xfrm>
            <a:off x="285840" y="71280"/>
            <a:ext cx="8786880" cy="6542280"/>
            <a:chOff x="285840" y="71280"/>
            <a:chExt cx="8786880" cy="6542280"/>
          </a:xfrm>
        </p:grpSpPr>
        <p:grpSp>
          <p:nvGrpSpPr>
            <p:cNvPr id="688" name="그룹 12"/>
            <p:cNvGrpSpPr/>
            <p:nvPr/>
          </p:nvGrpSpPr>
          <p:grpSpPr>
            <a:xfrm>
              <a:off x="1500120" y="5715000"/>
              <a:ext cx="7572600" cy="898560"/>
              <a:chOff x="1500120" y="5715000"/>
              <a:chExt cx="7572600" cy="898560"/>
            </a:xfrm>
          </p:grpSpPr>
          <p:pic>
            <p:nvPicPr>
              <p:cNvPr id="68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1500120" y="571500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Rectangle 4"/>
              <p:cNvSpPr/>
              <p:nvPr/>
            </p:nvSpPr>
            <p:spPr>
              <a:xfrm>
                <a:off x="2357280" y="5898960"/>
                <a:ext cx="671544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현행 노인복지정책과 서비스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91" name="그룹 22"/>
            <p:cNvGrpSpPr/>
            <p:nvPr/>
          </p:nvGrpSpPr>
          <p:grpSpPr>
            <a:xfrm>
              <a:off x="285840" y="785520"/>
              <a:ext cx="8644320" cy="4929480"/>
              <a:chOff x="285840" y="785520"/>
              <a:chExt cx="8644320" cy="4929480"/>
            </a:xfrm>
          </p:grpSpPr>
          <p:sp>
            <p:nvSpPr>
              <p:cNvPr id="692" name="AutoShape 2"/>
              <p:cNvSpPr/>
              <p:nvPr/>
            </p:nvSpPr>
            <p:spPr>
              <a:xfrm>
                <a:off x="285840" y="785520"/>
                <a:ext cx="8644320" cy="49294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93" name="Text Box 6"/>
              <p:cNvSpPr/>
              <p:nvPr/>
            </p:nvSpPr>
            <p:spPr>
              <a:xfrm>
                <a:off x="357120" y="1054800"/>
                <a:ext cx="8573040" cy="32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문재인 정부의 저출산고령사회 기본계획 수정계획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2019. 2.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목표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함께 만들어가는 행복한 노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정책방향과 과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79-380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다층적 노후소득 보장체계 내실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신중년 새로운 인생출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고령자의 다양한 사회참여 기회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지역사회 중심의 건강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돌봄 환경 조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6b0d89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성숙한 노년기를 위한 기반 마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94" name="AutoShape 4"/>
            <p:cNvSpPr/>
            <p:nvPr/>
          </p:nvSpPr>
          <p:spPr>
            <a:xfrm>
              <a:off x="357120" y="71280"/>
              <a:ext cx="5400720" cy="642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개요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0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551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3" name="Line 9"/>
          <p:cNvSpPr/>
          <p:nvPr/>
        </p:nvSpPr>
        <p:spPr>
          <a:xfrm flipV="1">
            <a:off x="0" y="3428640"/>
            <a:ext cx="85716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Line 12"/>
          <p:cNvSpPr/>
          <p:nvPr/>
        </p:nvSpPr>
        <p:spPr>
          <a:xfrm>
            <a:off x="0" y="4071960"/>
            <a:ext cx="928800" cy="4287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Line 64"/>
          <p:cNvSpPr/>
          <p:nvPr/>
        </p:nvSpPr>
        <p:spPr>
          <a:xfrm>
            <a:off x="0" y="4143240"/>
            <a:ext cx="785880" cy="11430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Line 9"/>
          <p:cNvSpPr/>
          <p:nvPr/>
        </p:nvSpPr>
        <p:spPr>
          <a:xfrm flipV="1">
            <a:off x="0" y="2643120"/>
            <a:ext cx="857160" cy="1208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7" name="Group 44"/>
          <p:cNvGrpSpPr/>
          <p:nvPr/>
        </p:nvGrpSpPr>
        <p:grpSpPr>
          <a:xfrm>
            <a:off x="642960" y="2097000"/>
            <a:ext cx="8199360" cy="3543840"/>
            <a:chOff x="642960" y="2097000"/>
            <a:chExt cx="8199360" cy="3543840"/>
          </a:xfrm>
        </p:grpSpPr>
        <p:sp>
          <p:nvSpPr>
            <p:cNvPr id="558" name="AutoShape 4"/>
            <p:cNvSpPr/>
            <p:nvPr/>
          </p:nvSpPr>
          <p:spPr>
            <a:xfrm>
              <a:off x="1622520" y="2097000"/>
              <a:ext cx="7199280" cy="6706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목적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원칙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59" name="Group 14"/>
            <p:cNvGrpSpPr/>
            <p:nvPr/>
          </p:nvGrpSpPr>
          <p:grpSpPr>
            <a:xfrm>
              <a:off x="642960" y="2116440"/>
              <a:ext cx="856800" cy="714600"/>
              <a:chOff x="642960" y="2116440"/>
              <a:chExt cx="856800" cy="714600"/>
            </a:xfrm>
          </p:grpSpPr>
          <p:sp>
            <p:nvSpPr>
              <p:cNvPr id="560" name="Oval 15"/>
              <p:cNvSpPr/>
              <p:nvPr/>
            </p:nvSpPr>
            <p:spPr>
              <a:xfrm>
                <a:off x="664200" y="211644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4200" y="211824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12040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Text Box 18"/>
              <p:cNvSpPr/>
              <p:nvPr/>
            </p:nvSpPr>
            <p:spPr>
              <a:xfrm>
                <a:off x="642960" y="212256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4"/>
            <p:cNvGrpSpPr/>
            <p:nvPr/>
          </p:nvGrpSpPr>
          <p:grpSpPr>
            <a:xfrm>
              <a:off x="642960" y="3053160"/>
              <a:ext cx="856800" cy="714600"/>
              <a:chOff x="642960" y="3053160"/>
              <a:chExt cx="856800" cy="714600"/>
            </a:xfrm>
          </p:grpSpPr>
          <p:sp>
            <p:nvSpPr>
              <p:cNvPr id="565" name="Oval 15"/>
              <p:cNvSpPr/>
              <p:nvPr/>
            </p:nvSpPr>
            <p:spPr>
              <a:xfrm>
                <a:off x="664200" y="30531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66" name="Oval 16"/>
              <p:cNvSpPr/>
              <p:nvPr/>
            </p:nvSpPr>
            <p:spPr>
              <a:xfrm>
                <a:off x="664200" y="30549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6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0571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Text Box 18"/>
              <p:cNvSpPr/>
              <p:nvPr/>
            </p:nvSpPr>
            <p:spPr>
              <a:xfrm>
                <a:off x="642960" y="30571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14"/>
            <p:cNvGrpSpPr/>
            <p:nvPr/>
          </p:nvGrpSpPr>
          <p:grpSpPr>
            <a:xfrm>
              <a:off x="642960" y="3991320"/>
              <a:ext cx="856800" cy="714600"/>
              <a:chOff x="642960" y="3991320"/>
              <a:chExt cx="856800" cy="714600"/>
            </a:xfrm>
          </p:grpSpPr>
          <p:sp>
            <p:nvSpPr>
              <p:cNvPr id="570" name="Oval 15"/>
              <p:cNvSpPr/>
              <p:nvPr/>
            </p:nvSpPr>
            <p:spPr>
              <a:xfrm>
                <a:off x="664200" y="39913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1" name="Oval 16"/>
              <p:cNvSpPr/>
              <p:nvPr/>
            </p:nvSpPr>
            <p:spPr>
              <a:xfrm>
                <a:off x="664200" y="39931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39952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Text Box 18"/>
              <p:cNvSpPr/>
              <p:nvPr/>
            </p:nvSpPr>
            <p:spPr>
              <a:xfrm>
                <a:off x="642960" y="399528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4"/>
            <p:cNvGrpSpPr/>
            <p:nvPr/>
          </p:nvGrpSpPr>
          <p:grpSpPr>
            <a:xfrm>
              <a:off x="642960" y="4924800"/>
              <a:ext cx="856800" cy="716040"/>
              <a:chOff x="642960" y="4924800"/>
              <a:chExt cx="856800" cy="716040"/>
            </a:xfrm>
          </p:grpSpPr>
          <p:sp>
            <p:nvSpPr>
              <p:cNvPr id="575" name="Oval 15"/>
              <p:cNvSpPr/>
              <p:nvPr/>
            </p:nvSpPr>
            <p:spPr>
              <a:xfrm>
                <a:off x="664200" y="492480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76" name="Oval 16"/>
              <p:cNvSpPr/>
              <p:nvPr/>
            </p:nvSpPr>
            <p:spPr>
              <a:xfrm>
                <a:off x="664200" y="4928760"/>
                <a:ext cx="777600" cy="712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577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713160" y="4930920"/>
                <a:ext cx="694440" cy="66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Text Box 18"/>
              <p:cNvSpPr/>
              <p:nvPr/>
            </p:nvSpPr>
            <p:spPr>
              <a:xfrm>
                <a:off x="642960" y="4930920"/>
                <a:ext cx="856800" cy="581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3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79" name="AutoShape 4"/>
            <p:cNvSpPr/>
            <p:nvPr/>
          </p:nvSpPr>
          <p:spPr>
            <a:xfrm>
              <a:off x="1643040" y="3033720"/>
              <a:ext cx="7199280" cy="6721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HY강B"/>
                </a:rPr>
                <a:t>노인복지 구성체계와 노인복지제도의 발달과정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0" name="AutoShape 4"/>
            <p:cNvSpPr/>
            <p:nvPr/>
          </p:nvSpPr>
          <p:spPr>
            <a:xfrm>
              <a:off x="1622520" y="3970440"/>
              <a:ext cx="7199280" cy="675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복지정책의 개념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구성요소 등의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>
              <a:off x="1643040" y="4907520"/>
              <a:ext cx="7199280" cy="676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현행 노인복지정책의 기본방향과 특성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82" name="AutoShape 7"/>
          <p:cNvSpPr/>
          <p:nvPr/>
        </p:nvSpPr>
        <p:spPr>
          <a:xfrm>
            <a:off x="250920" y="1353960"/>
            <a:ext cx="16063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제</a:t>
            </a:r>
            <a:r>
              <a:rPr b="1" lang="en-US" sz="3400" spc="-1" strike="noStrike">
                <a:solidFill>
                  <a:srgbClr val="ffffff"/>
                </a:solidFill>
                <a:latin typeface="HY강B"/>
                <a:ea typeface="HY강B"/>
              </a:rPr>
              <a:t>10 </a:t>
            </a:r>
            <a:r>
              <a:rPr b="1" lang="ko-KR" sz="3400" spc="-1" strike="noStrike">
                <a:solidFill>
                  <a:srgbClr val="ffffff"/>
                </a:solidFill>
                <a:latin typeface="HY강B"/>
                <a:ea typeface="HY강B"/>
              </a:rPr>
              <a:t>장 노인복지와 노인복지정책</a:t>
            </a:r>
            <a:endParaRPr b="0" lang="en-US" sz="3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그룹 10"/>
          <p:cNvGrpSpPr/>
          <p:nvPr/>
        </p:nvGrpSpPr>
        <p:grpSpPr>
          <a:xfrm>
            <a:off x="0" y="0"/>
            <a:ext cx="9144000" cy="6500880"/>
            <a:chOff x="0" y="0"/>
            <a:chExt cx="9144000" cy="6500880"/>
          </a:xfrm>
        </p:grpSpPr>
        <p:sp>
          <p:nvSpPr>
            <p:cNvPr id="585" name="AutoShape 2"/>
            <p:cNvSpPr/>
            <p:nvPr/>
          </p:nvSpPr>
          <p:spPr>
            <a:xfrm>
              <a:off x="180720" y="1285920"/>
              <a:ext cx="8820360" cy="1357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586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인복지의 의의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588" name="그룹 10"/>
            <p:cNvGrpSpPr/>
            <p:nvPr/>
          </p:nvGrpSpPr>
          <p:grpSpPr>
            <a:xfrm>
              <a:off x="214200" y="853920"/>
              <a:ext cx="8572680" cy="1788120"/>
              <a:chOff x="214200" y="853920"/>
              <a:chExt cx="8572680" cy="1788120"/>
            </a:xfrm>
          </p:grpSpPr>
          <p:sp>
            <p:nvSpPr>
              <p:cNvPr id="589" name="AutoShape 29"/>
              <p:cNvSpPr/>
              <p:nvPr/>
            </p:nvSpPr>
            <p:spPr>
              <a:xfrm>
                <a:off x="214200" y="853920"/>
                <a:ext cx="8572680" cy="43164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 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HY강B"/>
                  </a:rPr>
                  <a:t>노인복지의 확대 필요성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0" name="Text Box 25"/>
              <p:cNvSpPr/>
              <p:nvPr/>
            </p:nvSpPr>
            <p:spPr>
              <a:xfrm>
                <a:off x="356760" y="1282320"/>
                <a:ext cx="8215560" cy="13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미충족 욕구 및 문제의 다양화와 심화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노인부양 및 복지기능 약화와 생산인구의 부양부담 증가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삶에 부적절한 사회적 조건의 확산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5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 증진을 위한 </a:t>
                </a:r>
                <a:r>
                  <a:rPr b="0" lang="en-US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7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적 책임 주체인 국가의 적극적 개입 부족</a:t>
                </a:r>
                <a:endParaRPr b="0" lang="en-US" sz="17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591" name="AutoShape 2"/>
            <p:cNvSpPr/>
            <p:nvPr/>
          </p:nvSpPr>
          <p:spPr>
            <a:xfrm>
              <a:off x="180720" y="3143160"/>
              <a:ext cx="8820360" cy="3357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2" name="Text Box 25"/>
            <p:cNvSpPr/>
            <p:nvPr/>
          </p:nvSpPr>
          <p:spPr>
            <a:xfrm>
              <a:off x="290520" y="3286080"/>
              <a:ext cx="8853480" cy="32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개념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모든 노인들이 최저수준 이상의 생활을 유지하고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 충족과 생활상의 문제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예방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결하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후생활에 대한 적응과 사회통합을 이루는데 필요한 급여와 서비스를 제공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하는 공공과 민간부문의 조직적이고 전문적인 제반 활동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대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별적 복지─보편적 복지 중 선택에 따라 결정됨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    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그러나 의존성 노인에 한정되기 보다는 전체 노인이 대상이 되는 것이 일반적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주체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개인과 가족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장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market)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국가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목적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최저 수준 이상의 생활 유지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욕구충족과 생활문제의 예방과 해결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응과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통합의 성취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수단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금 또는 현물 급여와 비물질적 서비스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인복지의 방법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거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정책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+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미시적 접근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실천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3" name="AutoShape 4"/>
            <p:cNvSpPr/>
            <p:nvPr/>
          </p:nvSpPr>
          <p:spPr>
            <a:xfrm>
              <a:off x="357120" y="2786040"/>
              <a:ext cx="34290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200" spc="-1" strike="noStrike">
                  <a:solidFill>
                    <a:srgbClr val="ffffff"/>
                  </a:solidFill>
                  <a:latin typeface="HY강B"/>
                </a:rPr>
                <a:t>노인복지의 개념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그룹 9"/>
          <p:cNvGrpSpPr/>
          <p:nvPr/>
        </p:nvGrpSpPr>
        <p:grpSpPr>
          <a:xfrm>
            <a:off x="285840" y="71280"/>
            <a:ext cx="8712000" cy="6357960"/>
            <a:chOff x="285840" y="71280"/>
            <a:chExt cx="8712000" cy="6357960"/>
          </a:xfrm>
        </p:grpSpPr>
        <p:grpSp>
          <p:nvGrpSpPr>
            <p:cNvPr id="595" name="그룹 17"/>
            <p:cNvGrpSpPr/>
            <p:nvPr/>
          </p:nvGrpSpPr>
          <p:grpSpPr>
            <a:xfrm>
              <a:off x="285840" y="71280"/>
              <a:ext cx="8643960" cy="4500720"/>
              <a:chOff x="285840" y="71280"/>
              <a:chExt cx="8643960" cy="4500720"/>
            </a:xfrm>
          </p:grpSpPr>
          <p:sp>
            <p:nvSpPr>
              <p:cNvPr id="596" name="AutoShape 2"/>
              <p:cNvSpPr/>
              <p:nvPr/>
            </p:nvSpPr>
            <p:spPr>
              <a:xfrm>
                <a:off x="285840" y="499680"/>
                <a:ext cx="8606160" cy="407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7" name="Text Box 25"/>
              <p:cNvSpPr/>
              <p:nvPr/>
            </p:nvSpPr>
            <p:spPr>
              <a:xfrm>
                <a:off x="357120" y="644400"/>
                <a:ext cx="8572680" cy="38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이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헌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안정된 생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욕구의 충족과 사회통합의 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간다운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 편안하고 안락한 상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well-be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삶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 욕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족과 건강하고 문화적인 삶의 영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실현의 욕구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통합의 유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안정된 생활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적 최저 또는 최적 수준 이상의 경제생활보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자기실현의 욕구충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적인 생리적 욕구 충족과 안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 심리사회적 욕구 충족을 전제로 노년기의 발달과업성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후적응 및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욕구 충족을 위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회통합의 유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를 완화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류사회의 성원으로서의 지위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 부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활동에의 적극적 참여와 사회발전에 기여할 수 있는 기회의 부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98" name="AutoShape 4"/>
              <p:cNvSpPr/>
              <p:nvPr/>
            </p:nvSpPr>
            <p:spPr>
              <a:xfrm>
                <a:off x="357120" y="71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599" name="그룹 18"/>
            <p:cNvGrpSpPr/>
            <p:nvPr/>
          </p:nvGrpSpPr>
          <p:grpSpPr>
            <a:xfrm>
              <a:off x="285840" y="4643280"/>
              <a:ext cx="8712000" cy="1785960"/>
              <a:chOff x="285840" y="4643280"/>
              <a:chExt cx="8712000" cy="1785960"/>
            </a:xfrm>
          </p:grpSpPr>
          <p:sp>
            <p:nvSpPr>
              <p:cNvPr id="600" name="AutoShape 2"/>
              <p:cNvSpPr/>
              <p:nvPr/>
            </p:nvSpPr>
            <p:spPr>
              <a:xfrm>
                <a:off x="285840" y="5071680"/>
                <a:ext cx="8606520" cy="1357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1" name="Text Box 25"/>
              <p:cNvSpPr/>
              <p:nvPr/>
            </p:nvSpPr>
            <p:spPr>
              <a:xfrm>
                <a:off x="357120" y="5143320"/>
                <a:ext cx="8640720" cy="127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의 기본 가치를 반영하여야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‘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을 위한 유엔원칙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991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제시된 독립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보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실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이라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지 원칙을 따라야 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51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마드리드 고령화국제행동계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02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과 안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량강화 환경 구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2" name="AutoShape 4"/>
              <p:cNvSpPr/>
              <p:nvPr/>
            </p:nvSpPr>
            <p:spPr>
              <a:xfrm>
                <a:off x="357120" y="4643280"/>
                <a:ext cx="345600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복지의 원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그룹 11"/>
          <p:cNvGrpSpPr/>
          <p:nvPr/>
        </p:nvGrpSpPr>
        <p:grpSpPr>
          <a:xfrm>
            <a:off x="0" y="0"/>
            <a:ext cx="9144000" cy="6275520"/>
            <a:chOff x="0" y="0"/>
            <a:chExt cx="9144000" cy="6275520"/>
          </a:xfrm>
        </p:grpSpPr>
        <p:pic>
          <p:nvPicPr>
            <p:cNvPr id="60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Rectangle 2"/>
            <p:cNvSpPr/>
            <p:nvPr/>
          </p:nvSpPr>
          <p:spPr>
            <a:xfrm>
              <a:off x="1428480" y="14256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06" name="그룹 17"/>
            <p:cNvGrpSpPr/>
            <p:nvPr/>
          </p:nvGrpSpPr>
          <p:grpSpPr>
            <a:xfrm>
              <a:off x="323640" y="2565000"/>
              <a:ext cx="8606160" cy="3710520"/>
              <a:chOff x="323640" y="2565000"/>
              <a:chExt cx="8606160" cy="3710520"/>
            </a:xfrm>
          </p:grpSpPr>
          <p:sp>
            <p:nvSpPr>
              <p:cNvPr id="607" name="AutoShape 2"/>
              <p:cNvSpPr/>
              <p:nvPr/>
            </p:nvSpPr>
            <p:spPr>
              <a:xfrm>
                <a:off x="323640" y="2996640"/>
                <a:ext cx="8606160" cy="3278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8" name="Text Box 25"/>
              <p:cNvSpPr/>
              <p:nvPr/>
            </p:nvSpPr>
            <p:spPr>
              <a:xfrm>
                <a:off x="394920" y="3126960"/>
                <a:ext cx="8534880" cy="308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관련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저출산고령사회기본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령친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산업진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금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용상 연령차별 금지 및 고령자고용촉진에 관한 법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기초생활보장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민건강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택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거급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생교육법 등 다양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법인 노인복지법이 기본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정 노인복지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1981)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의 당위성을 제시하였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를 권리보다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선적 시혜로 간주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보다 경제성장을 우선시 하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개입을 최소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과 가족의 책임을 중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법의 개정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 제정 후 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차례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 중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의 전문 개정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6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차례의 일부 개정으로 노인복지 급여와 서비스 확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장기요양보험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매관리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제정으로 노인복지 획기적 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09" name="AutoShape 4"/>
              <p:cNvSpPr/>
              <p:nvPr/>
            </p:nvSpPr>
            <p:spPr>
              <a:xfrm>
                <a:off x="394920" y="256500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610" name="그룹 22"/>
            <p:cNvGrpSpPr/>
            <p:nvPr/>
          </p:nvGrpSpPr>
          <p:grpSpPr>
            <a:xfrm>
              <a:off x="285480" y="947520"/>
              <a:ext cx="8643960" cy="1552680"/>
              <a:chOff x="285480" y="947520"/>
              <a:chExt cx="8643960" cy="1552680"/>
            </a:xfrm>
          </p:grpSpPr>
          <p:sp>
            <p:nvSpPr>
              <p:cNvPr id="611" name="AutoShape 2"/>
              <p:cNvSpPr/>
              <p:nvPr/>
            </p:nvSpPr>
            <p:spPr>
              <a:xfrm>
                <a:off x="285480" y="1428480"/>
                <a:ext cx="8643960" cy="10717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2" name="Text Box 6"/>
              <p:cNvSpPr/>
              <p:nvPr/>
            </p:nvSpPr>
            <p:spPr>
              <a:xfrm>
                <a:off x="356760" y="1428480"/>
                <a:ext cx="8572680" cy="10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목적과 가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원칙 ＋ 노인복지의 대상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에서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주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인과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＋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행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시설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재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인력 등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제도체계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＋ 노인복지의 방법체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실천에서 추후 논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3" name="직사각형 18"/>
              <p:cNvSpPr/>
              <p:nvPr/>
            </p:nvSpPr>
            <p:spPr>
              <a:xfrm>
                <a:off x="285480" y="947520"/>
                <a:ext cx="621504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복지의 구성체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그룹 11"/>
          <p:cNvGrpSpPr/>
          <p:nvPr/>
        </p:nvGrpSpPr>
        <p:grpSpPr>
          <a:xfrm>
            <a:off x="0" y="0"/>
            <a:ext cx="9144000" cy="6377040"/>
            <a:chOff x="0" y="0"/>
            <a:chExt cx="9144000" cy="6377040"/>
          </a:xfrm>
        </p:grpSpPr>
        <p:pic>
          <p:nvPicPr>
            <p:cNvPr id="615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복지의 구성체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17" name="그룹 17"/>
            <p:cNvGrpSpPr/>
            <p:nvPr/>
          </p:nvGrpSpPr>
          <p:grpSpPr>
            <a:xfrm>
              <a:off x="179280" y="980640"/>
              <a:ext cx="8750520" cy="5396400"/>
              <a:chOff x="179280" y="980640"/>
              <a:chExt cx="8750520" cy="5396400"/>
            </a:xfrm>
          </p:grpSpPr>
          <p:sp>
            <p:nvSpPr>
              <p:cNvPr id="618" name="AutoShape 2"/>
              <p:cNvSpPr/>
              <p:nvPr/>
            </p:nvSpPr>
            <p:spPr>
              <a:xfrm>
                <a:off x="179280" y="1416960"/>
                <a:ext cx="8750520" cy="4960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19" name="Text Box 25"/>
              <p:cNvSpPr/>
              <p:nvPr/>
            </p:nvSpPr>
            <p:spPr>
              <a:xfrm>
                <a:off x="394920" y="1556640"/>
                <a:ext cx="8534880" cy="47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현행 노인복지법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공적 노화의 촉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권관점의 정책과 실천 등의 최근 노인복지동향의 미반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수급자 중심주의가 아닌 공급자 중심주의에 근거한 법체계로서 노인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영역별 욕구와 문제해결에 필요한 조치를 충분히 포괄하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초연금법 등의 타법 제정으로 관련 조문이 삭제되어 노인복지제도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기본법으로서의 성격을 갖추지 못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행 노인복지사업을 충분히 담지 못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노인문제에 대한 선제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응방안 마련의 근거 조항 미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법의 구성체계 혼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복지법 개정의 방향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인권관점 정책과 실천 등의 최신 노인복지 동향 반영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생활영역별 편제 또는 수급자 중심주의 강화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지역사회 돌봄을 중시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정책 기본 방향 제시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현행 노인복지 급여와 서비스의 법적 기반 확보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혼란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8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법령체계의 정비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노인복지제도의 기본법으로서의 성격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0" name="AutoShape 4"/>
              <p:cNvSpPr/>
              <p:nvPr/>
            </p:nvSpPr>
            <p:spPr>
              <a:xfrm>
                <a:off x="251280" y="980640"/>
                <a:ext cx="3819600" cy="436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복지의 법적 기반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그룹 6"/>
          <p:cNvGrpSpPr/>
          <p:nvPr/>
        </p:nvGrpSpPr>
        <p:grpSpPr>
          <a:xfrm>
            <a:off x="285840" y="214200"/>
            <a:ext cx="8858160" cy="6195960"/>
            <a:chOff x="285840" y="214200"/>
            <a:chExt cx="8858160" cy="6195960"/>
          </a:xfrm>
        </p:grpSpPr>
        <p:pic>
          <p:nvPicPr>
            <p:cNvPr id="622" name="Picture 2" descr="C:\DOCUME~1\USER\LOCALS~1\Temp\UNI000005b02efc.gif"/>
            <p:cNvPicPr/>
            <p:nvPr/>
          </p:nvPicPr>
          <p:blipFill>
            <a:blip r:embed="rId1"/>
            <a:stretch/>
          </p:blipFill>
          <p:spPr>
            <a:xfrm>
              <a:off x="7020360" y="5367600"/>
              <a:ext cx="2123640" cy="104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AutoShape 2"/>
            <p:cNvSpPr/>
            <p:nvPr/>
          </p:nvSpPr>
          <p:spPr>
            <a:xfrm>
              <a:off x="285840" y="642600"/>
              <a:ext cx="8715600" cy="54500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4" name="그룹 10"/>
            <p:cNvGrpSpPr/>
            <p:nvPr/>
          </p:nvGrpSpPr>
          <p:grpSpPr>
            <a:xfrm>
              <a:off x="285840" y="214200"/>
              <a:ext cx="8501040" cy="5676840"/>
              <a:chOff x="285840" y="214200"/>
              <a:chExt cx="8501040" cy="5676840"/>
            </a:xfrm>
          </p:grpSpPr>
          <p:sp>
            <p:nvSpPr>
              <p:cNvPr id="625" name="AutoShape 4"/>
              <p:cNvSpPr/>
              <p:nvPr/>
            </p:nvSpPr>
            <p:spPr>
              <a:xfrm>
                <a:off x="357120" y="21420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600" spc="-1" strike="noStrike">
                    <a:solidFill>
                      <a:srgbClr val="ffffff"/>
                    </a:solidFill>
                    <a:latin typeface="HY강B"/>
                  </a:rPr>
                  <a:t>노인복지 전달체계</a:t>
                </a:r>
                <a:endParaRPr b="0" lang="en-US" sz="2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285840" y="999720"/>
                <a:ext cx="8501040" cy="48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정부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보건복지부 인구정책실→ 노인정책관 → 노인정책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지원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제도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요양보험운영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치매정책과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1,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광역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복지 담당국과 담당과의 명칭 상이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3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기초단체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: (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국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)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담당과</a:t>
                </a:r>
                <a:r>
                  <a:rPr b="0" lang="en-US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사회복지전담공무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 노인복지전달체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시설과 기관에 따라 상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10-2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공적 노인복지전달체계의 문제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독자적 복지전달체계가 없어 일관성 있는 노인복지행정 추진에 문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중앙부처의 관련 업무 분산으로 인한 통합적 서비스 제공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노인 관련 보건과 복지 전달체계의 분리로 인한 통합서비스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spcBef>
                    <a:spcPts val="6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6b0d89"/>
                    </a:solidFill>
                    <a:latin typeface="HY강M"/>
                    <a:ea typeface="HY강M"/>
                  </a:rPr>
                  <a:t>최일선 전담공무원의 업무과다로 인한 대인서비스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그룹 5"/>
          <p:cNvGrpSpPr/>
          <p:nvPr/>
        </p:nvGrpSpPr>
        <p:grpSpPr>
          <a:xfrm>
            <a:off x="285840" y="285840"/>
            <a:ext cx="8715240" cy="6072120"/>
            <a:chOff x="285840" y="285840"/>
            <a:chExt cx="8715240" cy="6072120"/>
          </a:xfrm>
        </p:grpSpPr>
        <p:sp>
          <p:nvSpPr>
            <p:cNvPr id="628" name="AutoShape 2"/>
            <p:cNvSpPr/>
            <p:nvPr/>
          </p:nvSpPr>
          <p:spPr>
            <a:xfrm>
              <a:off x="285840" y="642960"/>
              <a:ext cx="8715240" cy="5715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29" name="그룹 10"/>
            <p:cNvGrpSpPr/>
            <p:nvPr/>
          </p:nvGrpSpPr>
          <p:grpSpPr>
            <a:xfrm>
              <a:off x="357120" y="285840"/>
              <a:ext cx="8501040" cy="5937480"/>
              <a:chOff x="357120" y="285840"/>
              <a:chExt cx="8501040" cy="5937480"/>
            </a:xfrm>
          </p:grpSpPr>
          <p:sp>
            <p:nvSpPr>
              <p:cNvPr id="630" name="AutoShape 4"/>
              <p:cNvSpPr/>
              <p:nvPr/>
            </p:nvSpPr>
            <p:spPr>
              <a:xfrm>
                <a:off x="357120" y="285840"/>
                <a:ext cx="428616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복지재정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1" name="Text Box 6"/>
              <p:cNvSpPr/>
              <p:nvPr/>
            </p:nvSpPr>
            <p:spPr>
              <a:xfrm>
                <a:off x="357120" y="1013760"/>
                <a:ext cx="8501040" cy="520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2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GDP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 사회복지지출 수준이 매우 낮은 상황이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은 큰 폭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증액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 예산액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,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→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7,21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억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앙정부 예산 기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정부예산 중 비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82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0.01% → 201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.1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준으로 빠르게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부 가 부담하는 예산을 합하면 노인복지예산 규모가 더 확대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4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예산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초연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장기요양보험이 예산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차지하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일자리지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6.4%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돌봄서비스 예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0.8%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은 비중 낮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0-5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지방분권화 정책에 따라 노인복지사업의 일부가 지방정부로 이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의 지방분권화 정책은 지역복지의 강화를 도모할 수 있게 되었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복지 예산 증액 애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역별 노인복지의 편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의 지역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계획 수립과 추진능력의 한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방정부에 대한 주민 감시 및 평가기능의 한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많은 문제 파생 가능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2" name="그룹 11"/>
          <p:cNvGrpSpPr/>
          <p:nvPr/>
        </p:nvGrpSpPr>
        <p:grpSpPr>
          <a:xfrm>
            <a:off x="0" y="0"/>
            <a:ext cx="9358200" cy="6412320"/>
            <a:chOff x="0" y="0"/>
            <a:chExt cx="9358200" cy="6412320"/>
          </a:xfrm>
        </p:grpSpPr>
        <p:sp>
          <p:nvSpPr>
            <p:cNvPr id="633" name="AutoShape 2"/>
            <p:cNvSpPr/>
            <p:nvPr/>
          </p:nvSpPr>
          <p:spPr>
            <a:xfrm>
              <a:off x="285480" y="1143000"/>
              <a:ext cx="8715600" cy="257148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634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3.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복지의 발달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36" name="그룹 10"/>
            <p:cNvGrpSpPr/>
            <p:nvPr/>
          </p:nvGrpSpPr>
          <p:grpSpPr>
            <a:xfrm>
              <a:off x="285480" y="785520"/>
              <a:ext cx="8572680" cy="2908440"/>
              <a:chOff x="285480" y="785520"/>
              <a:chExt cx="8572680" cy="2908440"/>
            </a:xfrm>
          </p:grpSpPr>
          <p:sp>
            <p:nvSpPr>
              <p:cNvPr id="637" name="AutoShape 4"/>
              <p:cNvSpPr/>
              <p:nvPr/>
            </p:nvSpPr>
            <p:spPr>
              <a:xfrm>
                <a:off x="356760" y="785520"/>
                <a:ext cx="3816360" cy="503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삼국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조선시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38" name="Text Box 6"/>
              <p:cNvSpPr/>
              <p:nvPr/>
            </p:nvSpPr>
            <p:spPr>
              <a:xfrm>
                <a:off x="285480" y="1336320"/>
                <a:ext cx="8572680" cy="235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왕의 仁政 에 의한 자선적이고 선별적인 권위적 주제와 구휼 주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삼국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鰥寡孤獨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과고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을 대상으로 양로연이나 효자 표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고려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교의 자비사상에 의한 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사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待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92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home helper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서대비원에서의 의료구제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조선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교의 경로효친에 근거 부양자 없는 노인과 양반 관리자에 시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耆老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39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로시설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民院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03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의무탁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養老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25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운영 법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致仕制度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1451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년퇴직제도 효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639" name="AutoShape 2"/>
            <p:cNvSpPr/>
            <p:nvPr/>
          </p:nvSpPr>
          <p:spPr>
            <a:xfrm>
              <a:off x="285480" y="4262400"/>
              <a:ext cx="8715600" cy="20955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640" name="그룹 10"/>
            <p:cNvGrpSpPr/>
            <p:nvPr/>
          </p:nvGrpSpPr>
          <p:grpSpPr>
            <a:xfrm>
              <a:off x="285480" y="3857400"/>
              <a:ext cx="8572680" cy="2554920"/>
              <a:chOff x="285480" y="3857400"/>
              <a:chExt cx="8572680" cy="2554920"/>
            </a:xfrm>
          </p:grpSpPr>
          <p:sp>
            <p:nvSpPr>
              <p:cNvPr id="641" name="AutoShape 4"/>
              <p:cNvSpPr/>
              <p:nvPr/>
            </p:nvSpPr>
            <p:spPr>
              <a:xfrm>
                <a:off x="356760" y="3857400"/>
                <a:ext cx="3816360" cy="50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일제시대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-1950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년대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642" name="Text Box 6"/>
              <p:cNvSpPr/>
              <p:nvPr/>
            </p:nvSpPr>
            <p:spPr>
              <a:xfrm>
                <a:off x="285480" y="4451040"/>
                <a:ext cx="8572680" cy="196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일제시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식민통치 반발 무마를 위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민구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독부내에 사회과 설치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업무 관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2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최초 양로시설 설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4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조선구호령 공포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세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극빈 및 무의탁 노인 보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해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-1950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년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쟁고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난민 등에 대한 응급구호사업에 주력하여 노인복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상대적 위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1948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헌법에 노인의 생존권 보장 명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5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노인복지시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소 운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16:34:53Z</dcterms:modified>
  <cp:revision>30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